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Tahoma"/>
              </a:rPr>
              <a:t>Click to move the slide</a:t>
            </a:r>
            <a:endParaRPr b="1" lang="en-US" sz="48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9F1E8-CCC8-4DA1-8E0D-6D01C619B2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DF3FA-09B4-4569-AB92-C18792AC71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A3A3-5666-4E74-91F3-718976541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C7D5-1096-475E-A0F0-4E6C5B64F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496F-2FF1-4BBA-9D7A-12AB74ABE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230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332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524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230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332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6CCC-96F6-4A72-8CED-52A180A65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01E1B-9DE9-49D5-A901-BC88DF0DC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9AFB9-95D9-4C5A-8013-BB4E735C2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99D43-1663-4FFC-8CFD-3D462EA8C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E9FCF-7B09-4642-821B-C4A076D11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3E49C-28F0-4CB9-9717-527FAFD4D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752480" y="30492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2D2F7-D040-493F-8754-961BFE670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EE5A8-2B4D-4356-B00D-24318B512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FEA8-46C4-45AE-BD9D-3C0A2332C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19429-5A82-4E97-89DA-C1E9740FE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270D3-8930-40C3-AC6D-B2E1D5A99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85E95-87CA-4768-8B79-0D39A3FFE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8EF9F-17E0-46CB-8278-C5DF4D370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1230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49332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7524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1230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49332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4BF8F-E62C-4EAA-B189-5729005E0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DB99-9E90-4418-B5AB-BBBE6A7AE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C4A1-3FFA-49B0-92B0-0036E6A5F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77FB-6903-42A2-884B-05FE78A78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52480" y="30492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6222-8DC6-4B2A-9731-20F67DC7B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86EF-85AF-4A64-AA43-1E73FF689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1A82-9888-4106-943A-8F870AF96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E679-70D4-4AEF-91AA-A13A60128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Tahoma"/>
              </a:rPr>
              <a:t>Click to edit the title text format</a:t>
            </a:r>
            <a:endParaRPr b="1" lang="en-US" sz="48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40000" indent="-205560">
              <a:spcBef>
                <a:spcPts val="2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51480" indent="-205560"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51480" indent="-205560"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51480" indent="-205560"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316400" y="6400800"/>
            <a:ext cx="208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CD68B-8D9F-4FE2-8874-A7852D95CE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66"/>
                </a:solidFill>
                <a:latin typeface="Tahoma"/>
              </a:rPr>
              <a:t>Click to edit the title text format</a:t>
            </a:r>
            <a:endParaRPr b="1" lang="en-US" sz="54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D2331-213F-438D-A3F7-DA33C8A5AA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904760" y="533160"/>
            <a:ext cx="70102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66"/>
                </a:solidFill>
                <a:latin typeface="Tahoma"/>
              </a:rPr>
              <a:t>Hands-On Activity</a:t>
            </a:r>
            <a:endParaRPr b="1" lang="en-US" sz="54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981080" y="2057040"/>
            <a:ext cx="5948640" cy="19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What is milk? 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895480" y="3352680"/>
            <a:ext cx="2971800" cy="29718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calvin milk"/>
          <p:cNvPicPr/>
          <p:nvPr/>
        </p:nvPicPr>
        <p:blipFill>
          <a:blip r:embed="rId3"/>
          <a:srcRect l="0" t="0" r="0" b="5486"/>
          <a:stretch/>
        </p:blipFill>
        <p:spPr>
          <a:xfrm>
            <a:off x="6477120" y="3352680"/>
            <a:ext cx="2300040" cy="2818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04760" y="914400"/>
            <a:ext cx="7010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Tahoma"/>
              </a:rPr>
              <a:t>Let’s separate the major components of milk!</a:t>
            </a:r>
            <a:endParaRPr b="1" lang="en-US" sz="4400" spc="-1" strike="noStrike">
              <a:solidFill>
                <a:srgbClr val="006666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5334120" y="3429000"/>
            <a:ext cx="2873160" cy="20271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819520" y="2971800"/>
            <a:ext cx="1793880" cy="2971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520" y="685800"/>
            <a:ext cx="723888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66"/>
                </a:solidFill>
                <a:latin typeface="Tahoma"/>
              </a:rPr>
              <a:t>Milk Components</a:t>
            </a:r>
            <a:endParaRPr b="1" lang="en-US" sz="5400" spc="-1" strike="noStrike">
              <a:solidFill>
                <a:srgbClr val="006666"/>
              </a:solidFill>
              <a:latin typeface="Tahoma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209680" y="1971720"/>
            <a:ext cx="6400080" cy="3618720"/>
            <a:chOff x="2209680" y="1971720"/>
            <a:chExt cx="6400080" cy="3618720"/>
          </a:xfrm>
        </p:grpSpPr>
        <p:cxnSp>
          <p:nvCxnSpPr>
            <p:cNvPr id="97" name="_s71685"/>
            <p:cNvCxnSpPr>
              <a:stCxn id="98" idx="0"/>
              <a:endCxn id="99" idx="2"/>
            </p:cNvCxnSpPr>
            <p:nvPr/>
          </p:nvCxnSpPr>
          <p:spPr>
            <a:xfrm flipV="1" rot="16200000">
              <a:off x="6540840" y="3780000"/>
              <a:ext cx="452880" cy="1358640"/>
            </a:xfrm>
            <a:prstGeom prst="bentConnector3">
              <a:avLst>
                <a:gd name="adj1" fmla="val 2219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0" name="_s71686"/>
            <p:cNvCxnSpPr>
              <a:stCxn id="101" idx="0"/>
              <a:endCxn id="99" idx="2"/>
            </p:cNvCxnSpPr>
            <p:nvPr/>
          </p:nvCxnSpPr>
          <p:spPr>
            <a:xfrm flipH="1" flipV="1" rot="5400000">
              <a:off x="5183280" y="3780720"/>
              <a:ext cx="452880" cy="1357920"/>
            </a:xfrm>
            <a:prstGeom prst="bentConnector3">
              <a:avLst>
                <a:gd name="adj1" fmla="val 2219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2" name="_s71687"/>
            <p:cNvCxnSpPr>
              <a:stCxn id="99" idx="0"/>
              <a:endCxn id="103" idx="2"/>
            </p:cNvCxnSpPr>
            <p:nvPr/>
          </p:nvCxnSpPr>
          <p:spPr>
            <a:xfrm flipV="1" rot="16200000">
              <a:off x="5183280" y="2423160"/>
              <a:ext cx="452880" cy="1357920"/>
            </a:xfrm>
            <a:prstGeom prst="bentConnector3">
              <a:avLst>
                <a:gd name="adj1" fmla="val 2219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4" name="_s71688"/>
            <p:cNvCxnSpPr>
              <a:stCxn id="105" idx="0"/>
              <a:endCxn id="103" idx="2"/>
            </p:cNvCxnSpPr>
            <p:nvPr/>
          </p:nvCxnSpPr>
          <p:spPr>
            <a:xfrm flipH="1" flipV="1" rot="5400000">
              <a:off x="3825720" y="2423160"/>
              <a:ext cx="452880" cy="1358640"/>
            </a:xfrm>
            <a:prstGeom prst="bentConnector3">
              <a:avLst>
                <a:gd name="adj1" fmla="val 22195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03" name="_s71689"/>
            <p:cNvSpPr/>
            <p:nvPr/>
          </p:nvSpPr>
          <p:spPr>
            <a:xfrm>
              <a:off x="3567600" y="1971720"/>
              <a:ext cx="2327040" cy="9046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ahoma"/>
                </a:rPr>
                <a:t>Milk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_s71690"/>
            <p:cNvSpPr/>
            <p:nvPr/>
          </p:nvSpPr>
          <p:spPr>
            <a:xfrm>
              <a:off x="2209680" y="3328560"/>
              <a:ext cx="2327040" cy="9046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ahoma"/>
                </a:rPr>
                <a:t>Butte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71691"/>
            <p:cNvSpPr/>
            <p:nvPr/>
          </p:nvSpPr>
          <p:spPr>
            <a:xfrm>
              <a:off x="4924800" y="3328560"/>
              <a:ext cx="2327040" cy="9046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ahoma"/>
                </a:rPr>
                <a:t>Buttermilk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_s71692"/>
            <p:cNvSpPr/>
            <p:nvPr/>
          </p:nvSpPr>
          <p:spPr>
            <a:xfrm>
              <a:off x="3567600" y="4685760"/>
              <a:ext cx="2327040" cy="9046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ahoma"/>
                </a:rPr>
                <a:t>Casein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1" lang="en-US" sz="2600" spc="-1" strike="noStrike">
                  <a:solidFill>
                    <a:srgbClr val="000000"/>
                  </a:solidFill>
                  <a:latin typeface="Tahoma"/>
                </a:rPr>
                <a:t>protein</a:t>
              </a:r>
              <a:r>
                <a:rPr b="1" lang="en-US" sz="2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71693"/>
            <p:cNvSpPr/>
            <p:nvPr/>
          </p:nvSpPr>
          <p:spPr>
            <a:xfrm>
              <a:off x="6282720" y="4685760"/>
              <a:ext cx="2327040" cy="9046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ahoma"/>
                </a:rPr>
                <a:t>Whe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2286000" y="4267080"/>
            <a:ext cx="6553080" cy="1524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752480" y="5335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Tahoma"/>
              </a:rPr>
              <a:t>Separating Curds and Whey</a:t>
            </a:r>
            <a:endParaRPr b="1" lang="en-US" sz="4400" spc="-1" strike="noStrike">
              <a:solidFill>
                <a:srgbClr val="006666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981080" y="2209680"/>
            <a:ext cx="3413160" cy="25606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5867280" y="2209680"/>
            <a:ext cx="274320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676520" y="685800"/>
            <a:ext cx="723888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66"/>
                </a:solidFill>
                <a:latin typeface="Tahoma"/>
              </a:rPr>
              <a:t>Milk Components</a:t>
            </a:r>
            <a:endParaRPr b="1" lang="en-US" sz="5400" spc="-1" strike="noStrike">
              <a:solidFill>
                <a:srgbClr val="006666"/>
              </a:solidFill>
              <a:latin typeface="Tahoma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2209680" y="2057400"/>
            <a:ext cx="6248160" cy="3533040"/>
            <a:chOff x="2209680" y="2057400"/>
            <a:chExt cx="6248160" cy="3533040"/>
          </a:xfrm>
        </p:grpSpPr>
        <p:cxnSp>
          <p:nvCxnSpPr>
            <p:cNvPr id="112" name="_s81925"/>
            <p:cNvCxnSpPr>
              <a:stCxn id="113" idx="0"/>
              <a:endCxn id="114" idx="2"/>
            </p:cNvCxnSpPr>
            <p:nvPr/>
          </p:nvCxnSpPr>
          <p:spPr>
            <a:xfrm flipV="1" rot="16200000">
              <a:off x="6437880" y="3822840"/>
              <a:ext cx="442080" cy="1326240"/>
            </a:xfrm>
            <a:prstGeom prst="bentConnector3">
              <a:avLst>
                <a:gd name="adj1" fmla="val 2216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5" name="_s81926"/>
            <p:cNvCxnSpPr>
              <a:stCxn id="116" idx="0"/>
              <a:endCxn id="114" idx="2"/>
            </p:cNvCxnSpPr>
            <p:nvPr/>
          </p:nvCxnSpPr>
          <p:spPr>
            <a:xfrm flipH="1" flipV="1" rot="5400000">
              <a:off x="5112360" y="3823560"/>
              <a:ext cx="442080" cy="1325520"/>
            </a:xfrm>
            <a:prstGeom prst="bentConnector3">
              <a:avLst>
                <a:gd name="adj1" fmla="val 2216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7" name="_s81927"/>
            <p:cNvCxnSpPr>
              <a:stCxn id="114" idx="0"/>
              <a:endCxn id="118" idx="2"/>
            </p:cNvCxnSpPr>
            <p:nvPr/>
          </p:nvCxnSpPr>
          <p:spPr>
            <a:xfrm flipV="1" rot="16200000">
              <a:off x="5112360" y="2498040"/>
              <a:ext cx="442080" cy="1325520"/>
            </a:xfrm>
            <a:prstGeom prst="bentConnector3">
              <a:avLst>
                <a:gd name="adj1" fmla="val 2216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9" name="_s81928"/>
            <p:cNvCxnSpPr>
              <a:stCxn id="120" idx="0"/>
              <a:endCxn id="118" idx="2"/>
            </p:cNvCxnSpPr>
            <p:nvPr/>
          </p:nvCxnSpPr>
          <p:spPr>
            <a:xfrm flipH="1" flipV="1" rot="5400000">
              <a:off x="3787200" y="2498040"/>
              <a:ext cx="442080" cy="1326240"/>
            </a:xfrm>
            <a:prstGeom prst="bentConnector3">
              <a:avLst>
                <a:gd name="adj1" fmla="val 2216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18" name="_s81929"/>
            <p:cNvSpPr/>
            <p:nvPr/>
          </p:nvSpPr>
          <p:spPr>
            <a:xfrm>
              <a:off x="3535200" y="2057400"/>
              <a:ext cx="2271960" cy="883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Tahoma"/>
                </a:rPr>
                <a:t>Milk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_s81930"/>
            <p:cNvSpPr/>
            <p:nvPr/>
          </p:nvSpPr>
          <p:spPr>
            <a:xfrm>
              <a:off x="2209680" y="3382200"/>
              <a:ext cx="2271960" cy="883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Tahoma"/>
                </a:rPr>
                <a:t>Butter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_s81931"/>
            <p:cNvSpPr/>
            <p:nvPr/>
          </p:nvSpPr>
          <p:spPr>
            <a:xfrm>
              <a:off x="4860000" y="3382200"/>
              <a:ext cx="2271960" cy="883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Tahoma"/>
                </a:rPr>
                <a:t>Buttermilk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_s81932"/>
            <p:cNvSpPr/>
            <p:nvPr/>
          </p:nvSpPr>
          <p:spPr>
            <a:xfrm>
              <a:off x="3535200" y="4707360"/>
              <a:ext cx="2271960" cy="883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Tahoma"/>
                </a:rPr>
                <a:t>Casein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1" lang="en-US" sz="2500" spc="-1" strike="noStrike">
                  <a:solidFill>
                    <a:srgbClr val="000000"/>
                  </a:solidFill>
                  <a:latin typeface="Tahoma"/>
                </a:rPr>
                <a:t>protein</a:t>
              </a:r>
              <a:r>
                <a:rPr b="1" lang="en-US" sz="27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_s81933"/>
            <p:cNvSpPr/>
            <p:nvPr/>
          </p:nvSpPr>
          <p:spPr>
            <a:xfrm>
              <a:off x="6185880" y="4707360"/>
              <a:ext cx="2271960" cy="883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Tahoma"/>
                </a:rPr>
                <a:t>Whey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828800" y="838080"/>
            <a:ext cx="7315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66"/>
                </a:solidFill>
                <a:latin typeface="Tahoma"/>
              </a:rPr>
              <a:t>Macromolecules </a:t>
            </a:r>
            <a:br>
              <a:rPr sz="5400"/>
            </a:br>
            <a:r>
              <a:rPr b="1" lang="en-US" sz="5400" spc="-1" strike="noStrike">
                <a:solidFill>
                  <a:srgbClr val="006666"/>
                </a:solidFill>
                <a:latin typeface="Tahoma"/>
              </a:rPr>
              <a:t>in Milk</a:t>
            </a:r>
            <a:endParaRPr b="1" lang="en-US" sz="54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980720" y="2133360"/>
            <a:ext cx="6705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ational standard: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Humans use natural systems as resources for growth and development.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epts: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roperties of macromolecules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ood components and origins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haracteristics of mammals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057400" y="304920"/>
            <a:ext cx="6324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6666"/>
                </a:solidFill>
                <a:latin typeface="Tahoma"/>
              </a:rPr>
              <a:t>Extensions</a:t>
            </a:r>
            <a:endParaRPr b="1" lang="en-US" sz="66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905120" y="1676160"/>
            <a:ext cx="670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5000"/>
              </a:lnSpc>
              <a:spcBef>
                <a:spcPts val="1749"/>
              </a:spcBef>
              <a:spcAft>
                <a:spcPts val="12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udents can analyze each milk phase for macromolecule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5000"/>
              </a:lnSpc>
              <a:spcBef>
                <a:spcPts val="1749"/>
              </a:spcBef>
              <a:spcAft>
                <a:spcPts val="12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udents can calculate the % of each macromolecule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5000"/>
              </a:lnSpc>
              <a:spcBef>
                <a:spcPts val="1749"/>
              </a:spcBef>
              <a:spcAft>
                <a:spcPts val="12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udents can apply separation techniques to other food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5000"/>
              </a:lnSpc>
              <a:spcBef>
                <a:spcPts val="1749"/>
              </a:spcBef>
              <a:spcAft>
                <a:spcPts val="12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udents can research cheese making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3T20:41:46Z</dcterms:created>
  <dc:creator>Cynthia J. Moore</dc:creator>
  <dc:description/>
  <dc:language>en-US</dc:language>
  <cp:lastModifiedBy>Cynthia Moore</cp:lastModifiedBy>
  <dcterms:modified xsi:type="dcterms:W3CDTF">2011-01-19T06:17:50Z</dcterms:modified>
  <cp:revision>39</cp:revision>
  <dc:subject/>
  <dc:title>Slide 1</dc:title>
</cp:coreProperties>
</file>